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432E-CB0E-425B-9F00-8E868B071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429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30C2-F5E8-4C4F-B9FA-79BE24D2B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429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2429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F06E-41FF-4E3F-988A-150B39EA9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429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2429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2429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7632-139F-4BB3-83CE-6A588884D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DB8B-9B92-4E0C-8C31-2B6E3E8BF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004F-8437-43F9-8BC8-C4997718F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2AEE-6901-416E-80EF-7931F113B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6A18-4B57-4FD5-B8E9-D4BD7B400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6880-6B4B-43C7-BF72-1E845BE39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429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4B66-6861-4B37-B6E0-F481C6ABF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2429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466C-1605-4303-98F7-B7E6184FB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429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9441-2C11-4D7C-B670-B47212860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2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N DESIGN WITH 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286760" y="0"/>
          <a:ext cx="1857240" cy="110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6760" y="0"/>
                    <a:ext cx="1857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324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DHUSMITA PAND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57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457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[</a:t>
            </a:r>
            <a:fld id="{067AAC41-C6FE-4EA6-8AB0-A72CDCB74C58}" type="slidenum"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/1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6200000">
            <a:off x="-2657880" y="3267000"/>
            <a:ext cx="57150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HNICAL SEMINAR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447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eminar Presentatio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09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N DESIGN WITH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38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the guidance of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. Rabindra Kumar Sh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7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562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DHUSMITA PAND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L NO#CS2001571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9731-0DA2-40E6-BA20-6341056222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DUNDANT LINKS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native paths that do not rely on the schaumburg 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ll mesh offers the most redundancy but is often too complex to man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al mesh is a good trade-off between redundancy and manage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ine business requirements to determine the best set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9505-F207-4BCB-974B-5A1EC36F0B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DUNDANT LINKS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B79B-AFCA-4DC2-8CEF-1C322CE178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LTERNATIVE DUAL-HUB DESIGN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10B1-EEB6-4FC3-8105-251CEA7495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98240" y="119556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879640"/>
            <a:ext cx="71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designed correctly frame relay can provid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 effective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expansion of the business and flexibility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71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5FB8-E0CC-4563-833B-C224E4A83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37480" y="3048120"/>
            <a:ext cx="41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ANK YOU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01C4-57B7-4F9C-AE12-6A5BAEC51D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NewRomanPSMT"/>
              </a:rPr>
              <a:t>OVER VIEW OF FRAME RELAY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for Wide Area Networ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Operates at Layer-2 in the OSI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Uses telecommunications  infra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Speeds from 56k (DS0) to 43Mbps (DS3)  depending on service        provi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97F2-6AEF-4DA8-B033-9520314C8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RAME RELAY TERMS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670572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 – Committed Inform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E – Data Circuit-terminating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TE – Data Terminal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LCI – Data Link Connection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DLC – High-level Data Link Control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MI – Line Managemen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P – Point-to-Poi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VC – Private Virtual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DB8B-72DA-4F8A-8B75-8E1D0D39F9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ASIC CONCEPTS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penSymbo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chase service from a frame relay provi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 point-to-point links (DTE to DCE)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 sites to frame clo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 up PVC's between customer si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VC endpoints are identified with a DL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itoring is done using L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1338-E94C-43A2-B532-12CD2C1531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AND DISADVANTAGES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aper than point-to-point links over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gestion on provider's network can de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ugh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 to ensure quality of service (Q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red to other proto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A8DD-823F-4AAF-B086-0A0B71C3B0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ITIGATING DISADVANTAGES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rmine present needs and plan for grow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ck service level agreements, C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fully examine service provider contra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ine altern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E637-FB46-4B31-BB6D-9AA213A666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LTERNATIVES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penSymbo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.25 – older protocol designed for analog li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 – Fixed-length cells give good, predictable quality of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 the decision based on needs, availability and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0122-CDE2-4EA7-B9EA-C95B58B141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NewRomanPSMT"/>
              </a:rPr>
              <a:t>CONNECTIONS TO THE CLOUD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8E9B-C336-4C03-8E46-789658178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NewRomanPSMT"/>
              </a:rPr>
              <a:t>BASIC HUB AND SPOKE DESIGN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0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72E8-45A5-4E94-AD0C-23D053A562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yshree</cp:lastModifiedBy>
  <dcterms:modified xsi:type="dcterms:W3CDTF">2004-12-27T08:19:32Z</dcterms:modified>
  <cp:revision>33</cp:revision>
  <dc:subject/>
  <dc:title>PowerPoint Presentation</dc:title>
</cp:coreProperties>
</file>