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33320"/>
            <a:ext cx="533520" cy="61246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711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72720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-2632680" y="3470760"/>
            <a:ext cx="56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ational Institute of Science &amp;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24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TECHNICAL SEMINAR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8640" y="1371600"/>
            <a:ext cx="868536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81040" y="6400800"/>
            <a:ext cx="72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Tapaswini Moha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4771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13D9-F327-4E43-B4AA-EEE2AAB72960}" type="slidenum"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EMENS DC DR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2209680"/>
            <a:ext cx="701028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der the guidan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. Prabhat Mohap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paswini Moh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l # EI2001570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E DRIVE P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base drive panel consists of a power module mounted on a base panel along with line fuse, a control trans former, and a cont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contains the hardware interface and software needed for operating the drive-in speed or torque control mo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916600" y="3809880"/>
          <a:ext cx="1627200" cy="23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6600" y="3809880"/>
                    <a:ext cx="16272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 TO DC CONVER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 SCR (originally referred to as a thyristor) contains a control element called a 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gate acts as the "turn-on" switch that allows the device to fully conduct vol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vice conducts voltage until the polarity of the device reverses-and then it automatically "turns off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14600" y="4952880"/>
          <a:ext cx="4267080" cy="127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4952880"/>
                    <a:ext cx="426708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C DRIVE CONVERT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 output of one thyristor is not smooth enough to control the voltage of industrial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ypically six thyristor are connected together to make a three-phase bridge rec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 gating angles of the thyristor in a bridge rectifier along with maximum negative and positive values of the AC sine wave, determining the value of the rectified DC vol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C DRIVE CONVE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47920" y="1523880"/>
          <a:ext cx="7097760" cy="45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709776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29580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7664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LING DC MO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20720" y="1981080"/>
          <a:ext cx="5902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81080"/>
                    <a:ext cx="5902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C DRIV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se two concepts of DC motors provides the key to understanding total driv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Speed is primarily determined by Applied Armature Voltage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Torque is controlled by armature Current (amperes)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NCIPLE OF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76520" y="1447920"/>
          <a:ext cx="6248160" cy="48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6248160" cy="48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C DRIV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nregenerative DC Dr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generative DC Dr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666880" y="3276720"/>
          <a:ext cx="5105520" cy="26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276720"/>
                    <a:ext cx="510552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C MOTOR CONTROL CHARACTERISTI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ant Torque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ant Horsepower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895480" y="3218040"/>
          <a:ext cx="3886200" cy="30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218040"/>
                    <a:ext cx="3886200" cy="30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C drives are used for low speed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ough they were used for variable speed control, yet the main drawback of the technique is the reduced reliability of the DC mo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variable speed drive is to control the flow of energy from the mains to the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y variable speed electrical drives system comprises of the following three compon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 electrical actuator- the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driving electrical machine –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driven machine(load) – Pump , fan,  blower, compr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87720" y="3191040"/>
            <a:ext cx="523872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lackTieDisplaySSi"/>
              </a:rPr>
              <a:t>Thank You</a:t>
            </a:r>
            <a:endParaRPr b="1" i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lackTieDisplaySSi"/>
              <a:ea typeface="BlackTieDisplaySS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C MOTOR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C motors are made up of the following major compo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a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in Field Windings (Sta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mature (Ro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mu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rush 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C MO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9580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52480" y="2112840"/>
          <a:ext cx="5257800" cy="36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12840"/>
                    <a:ext cx="5257800" cy="36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3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AGNETIC FIELD INTERAC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DC motor rotates as the result of the interaction of two magnetic fiel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magnet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ture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8132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2771640" cy="1965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362320" y="3576600"/>
            <a:ext cx="35431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7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DC MO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696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several  types of DC motors, classified according to the fie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manent ma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7196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14600" y="4495680"/>
          <a:ext cx="140004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4495680"/>
                    <a:ext cx="14000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98160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419720" y="4572000"/>
          <a:ext cx="1600200" cy="157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4572000"/>
                    <a:ext cx="160020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06224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553080" y="4572000"/>
          <a:ext cx="1347840" cy="16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53080" y="4572000"/>
                    <a:ext cx="1347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IMOREG DC MASTER 6RA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3648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OREG DC MASTER 6RA70 drives are designed to provide precise DC motor speed control   over a wide range of machine parameters and load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ives are available in power and voltage range up to 1000HP at 500VCD in standard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7208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029200" y="4343400"/>
          <a:ext cx="213372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343400"/>
                    <a:ext cx="21337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IMOREG DC MASTER 6RA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MOREG 6RA70 is available in two pack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wer mod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e drive pan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WER MO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wer module form contains the control electronics and power components needed to control the drive op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124080" y="2895480"/>
          <a:ext cx="2787840" cy="335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2895480"/>
                    <a:ext cx="278784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9:43:09Z</dcterms:created>
  <dc:creator>frank</dc:creator>
  <dc:description/>
  <dc:language>en-US</dc:language>
  <cp:lastModifiedBy>.</cp:lastModifiedBy>
  <dcterms:modified xsi:type="dcterms:W3CDTF">2004-12-16T17:18:43Z</dcterms:modified>
  <cp:revision>37</cp:revision>
  <dc:subject/>
  <dc:title>What is Computational Geometry </dc:title>
</cp:coreProperties>
</file>