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CBD7-2C9B-4196-90F6-BC09950E4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FDCA-E3E0-413E-A241-5E306583E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9930-CE2B-4A15-8A4A-F313C4E21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61F9-3E7D-4A46-A2AE-23E3A80E9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8C72-64B0-4869-B26E-967F7BF914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87B9-C458-4697-BD39-370DBB87B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EC58-9A3E-4D16-9FBE-51E73BDEA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A8AD-A4B0-4691-AA57-DEBA62B3D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5E98-1CAE-45E1-B81C-24E6819AF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7234-19FD-4A19-94B6-609694149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0DF7-9164-4E1E-A51F-F65F01119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BD2E-7742-417E-90B7-ED904BC1D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62640" y="6351480"/>
            <a:ext cx="2590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6267600"/>
            <a:ext cx="86644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44440" y="555480"/>
            <a:ext cx="86644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66760" y="1522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chnical Se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9240" y="6269040"/>
            <a:ext cx="69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esented by :- Sangram Sekhar Choudhuri(CS2001182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9880" y="838080"/>
            <a:ext cx="8615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658280" y="0"/>
          <a:ext cx="1295280" cy="7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58280" y="0"/>
                    <a:ext cx="12952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06D2-19B0-4E0C-8D5B-6FE3E4FB4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NAR REPORT ON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YNCHRONOUS TRANSFER MODE(ATM)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the Guidance of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 R.K.Shia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gram Sekhar Choudhuri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20011821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29F7-2ABF-4D5E-B672-970833C58C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M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hesive set of specifications that provide a stable ATM framework.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he end-to-end service definitions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ortant ATM standard is interworking between ATM and frame relay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TM networking standards 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broadband intercarrier interface (B–ICI)        2)public network-to-network interface (P–NNI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A3B0-78C7-41AA-A1FF-BC382D2D19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ATA INSERTION SCHE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1483-specifies how interrouter traffic is encapsulated into ATM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EMPOA- support dynamic use of ATM SVCs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and video adaptation schemes-for efficient traffic that no natural breaks, such as a circuit carrying bits at a fixed r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5590-4E29-4764-8F3A-A0873A0576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M LAN EMULATION(LA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Figure 4"/>
          <p:cNvPicPr/>
          <p:nvPr/>
        </p:nvPicPr>
        <p:blipFill>
          <a:blip r:embed="rId1"/>
          <a:stretch/>
        </p:blipFill>
        <p:spPr>
          <a:xfrm>
            <a:off x="457200" y="3019320"/>
            <a:ext cx="8153280" cy="3152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LANE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LANE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3CEF-5C79-4C33-964E-4E68F2E31F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IDEO OVER A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d by VBR–RT VCs using AAL–5 for MPEG2 on ATM for video-on-demand application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EG2 coding can result in two modes: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reams—variable-length packets carrying single or multiple programs 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streams—188-byte packets that contain multiple programs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tamps are inserted into MPEG2 packets during the encoding and multiplexing process to make better use of networking resources.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DA67-B1E9-4560-A6D6-6D256904C7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VOICE OVER A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BR–RT connections is used over ATM which uses silence period.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dynamic compression techniques are used to free bandwidth and alleviate congestion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rther enhancement is to support voice switching over SVCs which interprets PBX (private branch exchange) signaling and routing voice calls to the appropriate destination PB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6F62-9FA0-4E22-9CED-3B6182FB93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ETWORK TRAFFIC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:To deliver quality-of-service (QoS)  for multimedia applications and provide overall optimization of network resource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zed into three distinct elements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al-level controls that operate in real time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-level controls operate in near real time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engineering capabilities operating in   non real time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B6E9-3F12-4FA2-828D-C645AD5225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M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Figure 8"/>
          <p:cNvPicPr/>
          <p:nvPr/>
        </p:nvPicPr>
        <p:blipFill>
          <a:blip r:embed="rId1"/>
          <a:stretch/>
        </p:blipFill>
        <p:spPr>
          <a:xfrm>
            <a:off x="1143000" y="1828800"/>
            <a:ext cx="6629400" cy="43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AED3-40B1-4F47-91F2-ACEC4EAEBE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M AND IP INTERWO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 and IP offer: Scalability, traffic engineering, service differentiation, high availability, value-added applications such as Virtual Private Networks (VPNs)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pecifications of ATM and IP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Protocol over ATM (MPOA) as addition to LAN Emulation (LANE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s to ATM's superior routing protocol PNNI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ion of Frame-based ATM over Sonet/SDH (FAST) 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61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22AD-CA25-43E6-B54D-0F7F0701CF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 technology is the only technology that can guarantee a certain and predefined quality of service.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wth of the Internet, need for broadband access and e-commerce are spurring the need for a reliable, flexible, scalable, predictable, versatile transport system and that is  given by ATM Technology.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voice, video, data and images together, the next generation network depends on ATM.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F012-D3F3-4E0C-80DE-184F067C31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0" y="2895480"/>
            <a:ext cx="468936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65E2-337C-40FE-8D38-5D28854D8A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erformance, cell-oriented switching and multiplex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s fixed-length packets to carry different types of 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in efficient multimedia applications, high-speed LAN connections and used in broad range of networking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2612-7B8C-442F-9DA6-27F5780B6D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Figure 1"/>
          <p:cNvPicPr/>
          <p:nvPr/>
        </p:nvPicPr>
        <p:blipFill>
          <a:blip r:embed="rId1"/>
          <a:stretch/>
        </p:blipFill>
        <p:spPr>
          <a:xfrm>
            <a:off x="838080" y="1752480"/>
            <a:ext cx="7239240" cy="40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4B0C-C67F-4D57-A7D0-FD3B2B23EE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ENEFITS OF A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erformance via hardware switching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bandwidth for bursty traffic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-of-service support for multimedia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 in speed and network size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AN/WAN architecture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simplification via VC architecture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standards compliance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72BE-C279-4B4D-9D67-EF5E9D58E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M CELL HEADER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1978200"/>
          <a:ext cx="8763120" cy="38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78200"/>
                    <a:ext cx="8763120" cy="38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65F2-EF3A-4120-BF08-207BA79B29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M REFERENC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0ADF-9C02-41E3-AF5E-BDCAC2C71F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M ADDRESS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320" y="1795320"/>
            <a:ext cx="8991360" cy="376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E6AD-0948-421D-BBD8-6857C61B9C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M SERVIC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bit rate (CBR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bit rate–non-real time (VBR–NRT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bit rate–real time (VBR–RT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bit rate (ABR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pecified bit rate (UBR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003C-BFD0-40C8-8841-BECD87DAE7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M TECHNICAL 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loss ratio (CLR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transfer delay (CTD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delay variation (CDV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 cell rate (PCR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st tolerance (BT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ed cell rate (SCR) 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D954-BB7E-4335-A9A9-D1B2825EF8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7:17:47Z</dcterms:created>
  <dc:creator>Swadhin Ku. Bohidar</dc:creator>
  <dc:description/>
  <dc:language>en-US</dc:language>
  <cp:lastModifiedBy>Satyabrata</cp:lastModifiedBy>
  <dcterms:modified xsi:type="dcterms:W3CDTF">2004-12-21T14:32:20Z</dcterms:modified>
  <cp:revision>101</cp:revision>
  <dc:subject/>
  <dc:title>Slide 1</dc:title>
</cp:coreProperties>
</file>