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18B-DEBE-4FF9-A196-50947C75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AB7-AC03-405F-B0B8-C2AD0539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328-DDBF-47C1-B46C-0B74D3A4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17E-315B-426A-A6DC-07B3D169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E8E4-4BC8-4854-98FD-0278E405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8E0C-00B6-4C72-AACC-B14C885F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1E37-1700-4551-9A10-B591B1A6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B2AA-5145-4439-BAB1-83C2DB93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6EB8-A6A0-4DFA-831C-E5A26C62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2361-B730-4F8D-B4B4-C77337C0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5262-AB29-4B1F-88AD-FC4CF070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7DA-EF06-4C72-B5CC-E8A14A30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C179-928B-4F0B-8165-7AB44479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DB98-536B-424C-9794-59618560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CAE1-6A89-4F19-8966-51351EE8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4462-AB3E-4A97-94A8-33A989F0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14AF-499D-470D-92C5-77D5CC15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224-182E-4C9B-9955-A9884213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888-35D7-4D59-B89F-60FA35E9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C24-9A79-4DCD-8B70-376EBB7A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1E5-EF69-46E2-803C-6004F3D5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953-9D81-49FF-8654-B8499A9B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7C9-85F7-443B-B8CC-56B5D7DD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982-0A29-4E85-8A90-291B249A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2974-6038-4D5C-8E83-86B4E106C2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B47C-EE64-4ED5-A6E7-114B4F61BA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07:37:50Z</dcterms:created>
  <dc:creator>Spiro13</dc:creator>
  <dc:description/>
  <dc:language>en-US</dc:language>
  <cp:lastModifiedBy>Spiro13</cp:lastModifiedBy>
  <dcterms:modified xsi:type="dcterms:W3CDTF">2009-01-03T09:33:09Z</dcterms:modified>
  <cp:revision>2</cp:revision>
  <dc:subject/>
  <dc:title>Slide 1</dc:title>
</cp:coreProperties>
</file>