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17F-80CA-404C-89CD-F584E15D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92B-84C6-403F-823B-22D34CD5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3B7-4BFD-4C5F-B014-129BA428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598-E22E-4189-9D50-F9C76ED0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507C-1D41-468F-B10E-ACCBCDF8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58D0-B01E-4245-941C-168F9744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E917-0A99-400A-B397-DC5C5054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FAE4-CD8B-4111-9DD2-DEC89C7F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F550-2A8D-4767-8FDC-E475D075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0741-3910-408C-B3C3-A69792D3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4A29-1487-471A-8546-7960EE99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885-0ACA-4B0D-96DE-D3B9EFF8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23E3-3F79-4F2E-86FC-2679D1E8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CD64-FA54-4DEB-B5FF-6EB98388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F92B-792D-4C6E-9521-BF7D35E7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52CC-D129-406A-A091-410E83D9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79A4-E1E7-4EE7-A577-0DE7A929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B1D-24F0-42C3-9F43-E3AD8877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DE9-064E-4E50-83DB-60D93567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6D7-E953-4B55-ABF8-E2EE52D7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A7B1-C8F3-4F2B-A898-A334F8B2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C6C-94F9-4523-A27C-3600928C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0B2-9D42-48D4-BA5A-3402B037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C1B-6E24-4BAA-BA06-59032572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D1DA-A529-4075-9789-9793073429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FAB0-56BA-4355-98F0-1BE8911445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7:38:18Z</dcterms:created>
  <dc:creator>Spiro13</dc:creator>
  <dc:description/>
  <dc:language>en-US</dc:language>
  <cp:lastModifiedBy>Spiro13</cp:lastModifiedBy>
  <dcterms:modified xsi:type="dcterms:W3CDTF">2009-01-03T09:33:19Z</dcterms:modified>
  <cp:revision>2</cp:revision>
  <dc:subject/>
  <dc:title>Slide 1</dc:title>
</cp:coreProperties>
</file>