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A9B-382C-4CE0-A135-1DA23A7A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F1F-A9DE-4CF3-9CC3-7DEAC845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BD9-7E79-499C-A682-D041AAAF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026-AC53-4D6A-B31E-493DD44A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C63-C2C8-4F24-8902-A1C02421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F390-0A88-4014-BCD0-EAEE348C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54BA-BE16-4B75-B1D6-33FCDBCE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D115-C911-4873-ABFB-3FEBE408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8051-C2DC-4703-869D-27FC3F80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241-ED44-4ACC-8097-6628A14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00AF-660D-48C5-9181-8E1A2D4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3F7-05A7-4D67-8043-9050C881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6023-8B1E-457D-9F09-EE5F673C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EC7C-5946-436A-AE20-17ADDD23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622-57A1-43BD-941D-3C2A90DE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761D-355B-4FE9-951C-EC98DBD2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BA40-2C9E-401A-9393-ED18669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96D-B631-406F-B8A8-5114482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360-B111-4B6B-AC6F-AC2E669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226-EACD-427F-84E8-90DEE4B7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A58-DDC5-4B6E-87B3-AB79A180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E5F-4D95-45E7-AC66-F3BC4EF0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C6F-4102-42CC-92ED-CEC9434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52F-CA19-4434-8D58-707EEE4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D807-A6D5-452F-B873-81358380CA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6A7-CE92-453A-8912-48734D7546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30320" y="0"/>
            <a:ext cx="529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7:36:35Z</dcterms:created>
  <dc:creator>Spiro13</dc:creator>
  <dc:description/>
  <dc:language>en-US</dc:language>
  <cp:lastModifiedBy>Spiro13</cp:lastModifiedBy>
  <dcterms:modified xsi:type="dcterms:W3CDTF">2009-01-03T09:32:59Z</dcterms:modified>
  <cp:revision>2</cp:revision>
  <dc:subject/>
  <dc:title>Slide 1</dc:title>
</cp:coreProperties>
</file>