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9689-06F1-41C2-98C5-8C7D41A0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0EF8-8C7F-4AC4-BDB7-5A11E709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F12-A570-4F74-AE19-173085A0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3BC-8412-480E-8C7F-D31BC9CC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1E3A-AF44-4D46-B9B8-E205301D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897E-1FDE-4CF8-A62A-DA5707C6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0035-BCC3-4422-85B6-07DB5C3A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E948-29F8-4251-BFBC-6AA415EC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9318-708E-40B7-8D6D-D609F98F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E951-D7AE-4BF1-8C49-6C9DFFE0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FFB9-82B2-4A01-A85E-0C8C32DA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449-BBFB-4298-A22A-EF9E451A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8A3B-87E2-437C-A6D9-FA69CD68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2850-0261-4291-9BF8-E310C05B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9EC4-5B30-40E0-867F-741EB5D3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E856-8DE3-4A05-A652-FD6EAE49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5F44-268B-4C4D-BC45-AC74668F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B446E-F246-4551-AD76-A82EC757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DA2B5-0DE0-43A5-99C4-8698C5DC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DCD59-5BA3-4BF5-9D10-A5174CF5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E0475-8AB4-44A4-90C0-867B53D5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3CA66-3D80-4954-80BF-DF688ADD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CCA-5FBE-40F6-8E2E-DD798224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6357D-BF76-4E77-97F1-AABA1F3E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BF6A9-79C9-425C-8EC5-3A13B335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4309F-0863-4829-8624-A531598F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49D0A-5321-441C-877B-68DBEFAC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918FB-89B1-49BB-9B6B-E305E501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9CD70-613A-480F-B138-7C59F699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C4AB8-54A9-463A-9029-9DEFB882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C64DF-0166-4081-BEE6-1C1BFFE7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BB01A-9669-45CB-8935-F3160824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8512D-7EA0-40C2-BC12-B8F6D5E9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3E7-8F01-493D-B114-F7733989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51752-6A3D-4236-85C6-BA80E368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45B18-24CE-45FC-A51F-A77DD1E5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4093D-6B45-4F9F-AACF-182FC2DD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2685F-EB73-431D-B577-4FFF38CB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14FB8-E770-4958-A187-E4569F58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E65DA-573F-4D2E-8DC5-555E6294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74BEA-1E14-450C-8D8B-2CBBDB57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5B220-47D6-40BB-8F12-09C03E4C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3A0F5-14B6-44D2-BF57-050142E1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6D965-83E9-4657-8456-A2AA6766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B91-1539-41DE-8FE5-A474EA3F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FBE52-A16A-450C-9E4B-BD2756B2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60C31-BEE4-4FF2-8A66-7F932701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D273D-9AF5-4FB9-932B-A89F687B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87AFB-7594-4F9F-8D56-3ABAA257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6D031-76C4-4D2B-BF4D-25C5DE5F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8168A-6967-450F-8C0B-B01D8165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16245E-E4FC-4E07-9A4E-0E9142E3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FA58F-03CD-40CF-B9CA-686A07BE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512F8-4477-429A-A591-D699E36C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23DD1-AA19-4E86-9082-4978BE90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902-F2AA-46C8-8761-472D2BCB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C443E-690A-4477-B709-72D56DCD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B882BD-EE6E-4FB1-B079-C30CD77A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CB9260-876F-4745-9265-5DBD9446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A0C70-4E43-4946-8C9E-99833E47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3B966-7DFA-40C6-8B92-369C525B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224455-120C-4A6D-BA20-251A6586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7BD3D-F3A1-4770-9990-CAFCA4D7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2A6578-F43D-402B-86E6-3450DBD6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53E88-1218-4F90-BFF0-769322BD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BBDA7-08A1-42FC-BAF4-89B195B2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393-E26C-40AC-A7A7-2563F54D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E64AF4-8E7C-42DF-8064-CAB729F1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32D6B2-5A9F-4E99-AB3C-33671C9E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DC4F1-A924-461A-9979-6D6366A0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AF86DF-ECDA-46C5-A644-EC29651A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D7778-E3E9-4216-8BDE-63DCE7F5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529F7-D56B-41C9-9ECA-F2F36AD8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C11C4E-D356-48FB-83F8-C50323F8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010451-498E-4A5C-9742-B8D2EA7C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242BF-37EA-42C6-8E95-16A00BAA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22E8A3-C382-40E3-9C6C-D33011B9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0DF-65C6-45B4-90E1-E89ECAD4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EAD47-4D28-48EE-BC51-1D5DFC3C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FF926-2148-484F-8336-D567BE16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5273B-3F6B-4E00-B0D7-508D32FA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C10FF-7459-4842-A161-D4BE3EF6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814B30-A816-4ACC-8F26-2519656E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283-6135-45FD-B01A-E65FA5C2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A303-15ED-461B-A518-B7A7FABC8D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AEA4-CAF1-4B1C-8159-6DFC3C9759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D97A-4655-47CF-B2C4-46E96841C7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E541-6480-4E06-A774-B72D1FA35E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26F8-EF47-4B71-8A31-BD08244A29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3CD8-3F28-4504-B57C-30FA4ED277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6F06-1C84-4999-8CB0-02C09D8FF9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1" i="1" lang="en-US" sz="4300" spc="-1" strike="noStrike">
                <a:solidFill>
                  <a:srgbClr val="575f6d"/>
                </a:solidFill>
                <a:latin typeface="Comic Sans MS"/>
              </a:rPr>
              <a:t>JOBBING PORTCULLIS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600200" y="205740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i="1" lang="en-US" sz="1700" spc="-1" strike="noStrike">
                <a:solidFill>
                  <a:srgbClr val="575f6d"/>
                </a:solidFill>
                <a:latin typeface="Century Schoolbook"/>
              </a:rPr>
              <a:t>Presented by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7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en-US" sz="2200" spc="-1" strike="noStrike">
                <a:solidFill>
                  <a:srgbClr val="575f6d"/>
                </a:solidFill>
                <a:latin typeface="Century Schoolbook"/>
              </a:rPr>
              <a:t>A.Naga Prasad                    06G71A122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f6d"/>
                </a:solidFill>
                <a:latin typeface="Century Schoolbook"/>
              </a:rPr>
              <a:t>                 </a:t>
            </a:r>
            <a:r>
              <a:rPr b="1" lang="en-US" sz="2200" spc="-1" strike="noStrike">
                <a:solidFill>
                  <a:srgbClr val="575f6d"/>
                </a:solidFill>
                <a:latin typeface="Century Schoolbook"/>
              </a:rPr>
              <a:t>D.Ashok</a:t>
            </a:r>
            <a:r>
              <a:rPr b="1" lang="en-US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2200" spc="-1" strike="noStrike">
                <a:solidFill>
                  <a:srgbClr val="575f6d"/>
                </a:solidFill>
                <a:latin typeface="Century Schoolbook"/>
              </a:rPr>
              <a:t>                       06G71A1206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f6d"/>
                </a:solidFill>
                <a:latin typeface="Century Schoolbook"/>
              </a:rPr>
              <a:t>                 </a:t>
            </a:r>
            <a:r>
              <a:rPr b="1" lang="en-US" sz="2200" spc="-1" strike="noStrike">
                <a:solidFill>
                  <a:srgbClr val="575f6d"/>
                </a:solidFill>
                <a:latin typeface="Century Schoolbook"/>
              </a:rPr>
              <a:t>K.Gowtham Phani Tej        06G71A1212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f6d"/>
                </a:solidFill>
                <a:latin typeface="Century Schoolbook"/>
              </a:rPr>
              <a:t>                 </a:t>
            </a:r>
            <a:r>
              <a:rPr b="1" lang="en-US" sz="2200" spc="-1" strike="noStrike">
                <a:solidFill>
                  <a:srgbClr val="575f6d"/>
                </a:solidFill>
                <a:latin typeface="Century Schoolbook"/>
              </a:rPr>
              <a:t>B.Karunakar                       06G71A1220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f6d"/>
                </a:solidFill>
                <a:latin typeface="Century Schoolbook"/>
              </a:rPr>
              <a:t>                    </a:t>
            </a:r>
            <a:r>
              <a:rPr b="1" lang="en-US" sz="22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75f6d"/>
                </a:solidFill>
                <a:latin typeface="Century Schoolbook"/>
              </a:rPr>
              <a:t>                               </a:t>
            </a:r>
            <a:r>
              <a:rPr b="1" i="1" lang="en-US" sz="1700" spc="-1" strike="noStrike">
                <a:solidFill>
                  <a:srgbClr val="575f6d"/>
                </a:solidFill>
                <a:latin typeface="Century Schoolbook"/>
              </a:rPr>
              <a:t>Under the guidance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</a:t>
            </a:r>
            <a:r>
              <a:rPr b="1" i="1" lang="en-US" sz="1700" spc="-1" strike="noStrike">
                <a:solidFill>
                  <a:srgbClr val="575f6d"/>
                </a:solidFill>
                <a:latin typeface="Century Schoolbook"/>
              </a:rPr>
              <a:t>of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f6d"/>
                </a:solidFill>
                <a:latin typeface="Century Schoolbook"/>
              </a:rPr>
              <a:t>                                 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B.Venkann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MODULES DESCRIP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minist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min acts as a liaison between Employer and Jobseek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ollects required information about jobs  from the Employe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is a single point control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s the entire site, Post Job Fair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MODULES DESCRIP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ob Seek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module he can search the jobs ,apply, save the jobs and finally can upload the resumes to a particular job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Content Placeholder 4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00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MODULES DESCRIP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5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mploy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module he can give adds for the jobs and he can take necessary resumes from the portal by performing search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Content Placeholder 3" descr=""/>
          <p:cNvPicPr/>
          <p:nvPr/>
        </p:nvPicPr>
        <p:blipFill>
          <a:blip r:embed="rId1"/>
          <a:stretch/>
        </p:blipFill>
        <p:spPr>
          <a:xfrm>
            <a:off x="795240" y="1600200"/>
            <a:ext cx="67914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MODULES DESCRIP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arch eng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 is a tool used to provide the search option to the job seekers like based on the functional area and locatio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Content Placeholder 3" descr=""/>
          <p:cNvPicPr/>
          <p:nvPr/>
        </p:nvPicPr>
        <p:blipFill>
          <a:blip r:embed="rId1"/>
          <a:stretch/>
        </p:blipFill>
        <p:spPr>
          <a:xfrm>
            <a:off x="795240" y="1600200"/>
            <a:ext cx="67914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MODULES DESCRIP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094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ob Calend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user selects any date in the job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endar then it displays list of jobs availab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at particular date in the same page.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ontent Placeholder 3" descr=""/>
          <p:cNvPicPr/>
          <p:nvPr/>
        </p:nvPicPr>
        <p:blipFill>
          <a:blip r:embed="rId1"/>
          <a:stretch/>
        </p:blipFill>
        <p:spPr>
          <a:xfrm>
            <a:off x="795240" y="1600200"/>
            <a:ext cx="67914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CONTENT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295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Syste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yste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Requireme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Requi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me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tab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L Diagra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DATABASE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DMIN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762120" y="3048120"/>
          <a:ext cx="7543800" cy="2193840"/>
        </p:xfrm>
        <a:graphic>
          <a:graphicData uri="http://schemas.openxmlformats.org/drawingml/2006/table">
            <a:tbl>
              <a:tblPr/>
              <a:tblGrid>
                <a:gridCol w="1508040"/>
                <a:gridCol w="1509840"/>
                <a:gridCol w="1508040"/>
                <a:gridCol w="1509480"/>
                <a:gridCol w="1508400"/>
              </a:tblGrid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ATA TYPE (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ONSTRAINTS (KE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  <a:ea typeface="Calibri"/>
                        </a:rPr>
                        <a:t>REFERENCES F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DMIN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ARCHAR(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SS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ARCHAR(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T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DATABASE</a:t>
            </a:r>
            <a:br>
              <a:rPr sz="2700"/>
            </a:br>
            <a:br>
              <a:rPr sz="2700"/>
            </a:b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JOB SEEKER:</a:t>
            </a:r>
            <a:br>
              <a:rPr sz="27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600200" y="2057400"/>
          <a:ext cx="6095880" cy="411480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OLUM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ATA TYPE (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ONSTRAINTS (KE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  <a:ea typeface="Calibri"/>
                        </a:rPr>
                        <a:t>RE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EKER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IMARY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SER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ARCHAR(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T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SS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ARCHAR(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T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IR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ARCHAR(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T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ST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ARCHAR(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57400" y="1980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UML DIAGRAM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80920" y="3733920"/>
            <a:ext cx="441972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1"/>
          <p:cNvGraphicFramePr/>
          <p:nvPr/>
        </p:nvGraphicFramePr>
        <p:xfrm>
          <a:off x="228600" y="171360"/>
          <a:ext cx="8915400" cy="668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360"/>
                    <a:ext cx="89154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paper, we have presented a portal service technique in order to reduce the gap between Industry and Industry needed resourc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arison our portal technique with previously posed techniques shows the superiority of our techniqu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666880" y="41907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75f6d"/>
                </a:solidFill>
                <a:latin typeface="Century Schoolbook"/>
              </a:rPr>
              <a:t>THANK YOU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3725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8288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bing portcullis is an web based applic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eveloped in order to reduce the gap between Industry and Industry needed resourc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Calendar and AJAX  features are involved in this porta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086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PURPOSE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440" y="16761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pplication helps for the jobseekers to upload resumes, searches for the job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ed employers can give adds for the job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EXISTING SYSTEM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ob sites are good enough to display the jobs availabl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are very slow and not well organized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well built-in system to check the history or older job postings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447920" y="1523880"/>
            <a:ext cx="39592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4724280" y="25146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575f6d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PROPOSED SYSTEM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urrent project has the following featur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Shows the calendar and job postings list on each da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The basic features enhanced in Ajax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list of jobs available on the particular date on the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pag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ll text search feature in Ajax is used to provide 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and faster search feature for both employers an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seek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723888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S/W REQUIREMENTS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285640" y="114264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Microsoft .Net framework 2.0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Microsoft ASP.Ne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AJAX Tool kit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Microsoft C#.Net language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Microsoft SQL Server 200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HTM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09320" y="304920"/>
            <a:ext cx="723924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H/W REQUIREMENTS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2361960" y="190476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PIV 2.8GHZ Processor and Abov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RAM 512MB and Abov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HDD 20GB Hard Disk Space and   Abov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723888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MODUL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133360" y="144756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Administra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Job Seek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Employ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Search Engi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Job Calenda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4:25:43Z</dcterms:created>
  <dc:creator>sys</dc:creator>
  <dc:description/>
  <dc:language>en-US</dc:language>
  <cp:lastModifiedBy>mits</cp:lastModifiedBy>
  <dcterms:modified xsi:type="dcterms:W3CDTF">2010-05-05T07:08:03Z</dcterms:modified>
  <cp:revision>102</cp:revision>
  <dc:subject/>
  <dc:title>MODULES: </dc:title>
</cp:coreProperties>
</file>