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0C95-02B3-406A-9304-F3B44AA1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48EC-8CC0-49E6-B96B-F8E70767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5945-F3ED-4253-AD4F-F1B61BBD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97B7-ED9F-4B05-9BA4-799ACA5E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ABB2-2927-4183-9C9B-BBA7A686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FEFD-DB96-4F56-ACB7-7755C4B4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DDA4-5E58-4199-86F3-DD680716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E677-89E0-44C7-BCC5-676F2B46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42F6-7C90-43EE-801B-E952D76F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210E-C536-4EB4-9E89-8B9E3BAF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0095-6AEC-4613-9508-C090E2CE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C421-BAC1-45E1-BC54-79BC2333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CD7E-FD29-4997-B4AE-E4CFA6500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37160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Monotype Corsiva"/>
              </a:rPr>
              <a:t>HOSPIT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Monotype Corsiva"/>
              </a:rPr>
              <a:t>MANAGEM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Monotype Corsiva"/>
              </a:rPr>
              <a:t>SYST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857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Data Flow Diagram 2.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857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Data Flow Diagram 2.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857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Data Flow Diagram 3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685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Data Flow Diagram 4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685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Data Flow Diagram 5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017720"/>
            <a:ext cx="9144000" cy="5840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E-R Dia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514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Functional Decomposition Dia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838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Context Level Dia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496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838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Data Flow Diagram1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Data Flow Diagram 2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8:24:19Z</dcterms:created>
  <dc:creator>vaibhav</dc:creator>
  <dc:description/>
  <dc:language>en-US</dc:language>
  <cp:lastModifiedBy>Sumit</cp:lastModifiedBy>
  <dcterms:modified xsi:type="dcterms:W3CDTF">2006-04-12T20:18:36Z</dcterms:modified>
  <cp:revision>34</cp:revision>
  <dc:subject/>
  <dc:title>PowerPoint Presentation</dc:title>
</cp:coreProperties>
</file>