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04E-123E-4330-82FF-3C58B8D4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04B-638E-438F-8D2C-07BA9AD2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C8A-4AB6-416E-94CA-42B88A24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CBF5-B5FF-4A40-8B66-4A1E932D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AD2-C543-4773-80CC-6DB39936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530E-57E2-40BF-BCBF-AE1B9B69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F292-AC68-4862-9B5D-E9923D95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8317-D00D-4E7B-A73E-982EC6E0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D5A-4DE7-463B-9984-5CA73118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CA7-3624-4A79-A3DA-C0F588DF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0A6-37E0-4E43-9BD1-A4E53265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46F-03FE-416F-9336-D762EBAF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D57A-9903-4BE2-95C1-5D1635F0D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144792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HOSPIT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MANAGE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SYST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0" y="857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Data Flow Diagram 2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DFD2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FD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0" y="857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Data Flow Diagram 3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FD4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0" y="685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Data Flow Diagram 4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FD5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0" y="685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Data Flow Diagram 5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ER Diagram"/>
          <p:cNvPicPr/>
          <p:nvPr/>
        </p:nvPicPr>
        <p:blipFill>
          <a:blip r:embed="rId1"/>
          <a:stretch/>
        </p:blipFill>
        <p:spPr>
          <a:xfrm>
            <a:off x="0" y="1017720"/>
            <a:ext cx="9144000" cy="58402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E-R 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Aim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Scope1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Scope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DD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0" y="514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Functional Decomposition 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LD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0" y="838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Context Level 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FD1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4960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0" y="838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Data Flow Diagram1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FD2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Data Flow Diagram 2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FD2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0" y="857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Data Flow Diagram 2.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8:24:19Z</dcterms:created>
  <dc:creator>vaibhav</dc:creator>
  <dc:description/>
  <dc:language>en-US</dc:language>
  <cp:lastModifiedBy>1000Projects</cp:lastModifiedBy>
  <dcterms:modified xsi:type="dcterms:W3CDTF">2014-09-30T02:40:36Z</dcterms:modified>
  <cp:revision>35</cp:revision>
  <dc:subject/>
  <dc:title>PowerPoint Presentation</dc:title>
</cp:coreProperties>
</file>